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803-12BB-486F-B316-0FCA35A72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E95-643C-49E4-BDCB-A7D04FECC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B300-0B8C-43D2-8BED-2E69CE289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D65E-AD49-471A-A50D-E1B42EAFC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B1E5-ED15-4E24-A379-CC415101F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F89-E2E3-44B9-BFAE-F6915197A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CD8-70F0-4063-B3EA-CE7DB93B7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0A0-E3EF-487F-95F8-1FAE669D5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AC0-E4A0-4B71-B6A8-FECED44C5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E1DD-C5DA-4A28-8F11-91FB9002F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24A-995D-44D9-9DB6-5FE60809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581-D958-403C-AB70-6599C38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317-5BF3-450D-BBBB-27F8BD20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93A-CD56-4EE1-85B3-186E36C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3CA3-0A21-4AE8-B39A-AF409609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91C-FB3E-4AD3-8F81-374A29E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17F-45B9-4D99-B5E4-1A5E15D6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46BC-0F6F-4502-BFC6-4D5BFA37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8622-B03C-40FC-AD60-BC0B4C4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CC65-510A-4023-AEAE-FC56543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488C-2B69-4497-B7D7-CDC00ED4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D2E-47D4-41F4-A1EE-C681F751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8DB-80FE-4D0C-A62D-4C5FBE3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F599-B06F-453D-8A2F-D862B01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8515-43B0-42A6-920A-1B0415A1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8A4-2B70-4CAF-9908-F934B2C2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29F-9A39-4BF0-B0E4-5905C0B4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BFC8-349A-4616-B8D3-A47206F5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BF8A-C551-4B87-B96A-3ED88FB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5328-9383-46FA-973E-BDA960D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8EB7-FC7E-413A-95FE-8D0D12F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9D37-3EFA-4DC4-B7F1-855EF9D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B22-6814-4CE1-9518-1962D852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E828-0532-46B7-8C71-485B5E9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FC6E-909E-45B1-B911-577B4BD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535F-2CD3-4862-B870-8ADCBA9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9981-90AF-4AB6-B708-E48AC827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F6F3-0EAB-4946-B3B8-71DCE7F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CA1D-3719-47B4-BA45-B69A99AC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7F8B-9970-4924-B771-2D03BE35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0B32-69F0-4677-971D-0B21919E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D05D-F2B4-47AB-BD55-6A4BA93A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D84C-80DD-4FB4-B7BD-EE742C7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241-8BFA-46BC-AF0D-1177353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0CB5-4B81-4B6B-ACFB-63BE275C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5F16-A4E1-41E0-9658-8A3A9134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DCDB-558C-4A3F-AC28-9865CAB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7C10-8EFA-4AA9-81EE-5D17498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0856-D50E-4816-85A7-E259DE3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83B5F-A831-49C3-8D0C-0A0F638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4C18-B1F2-4809-A868-7C2A2130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4EED-2F42-4D9F-A84B-EF0F83E8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9E8E-1B78-404C-A0EE-06B1203E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814-8902-41C5-9453-3D96246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121-A58B-410F-93F5-6DB041B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7AE-90D9-4B68-91AB-A85DDB74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F07-50B1-40F9-B931-224873C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192-2C8B-4D32-AF52-6EA3C76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789-56C7-4535-A93A-3551B9358C1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386-FA84-4414-B890-50CCB85769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49C-BD3A-46E9-BC63-D0D5C87CB6B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37FE-B01C-41FB-92E2-CB14D345CC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7E3-26F3-4BEE-AD28-4E7F80F7F92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AE8-400C-44AA-8F23-A8AD63CEDD1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F329-07E2-4A2D-BE0C-5435C8C732F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BDA-71C2-4078-9968-959297B867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hyperlink" Target="http://www.asij.ac.jp/elementary/iTeacher/netiquette.htm" TargetMode="External"/><Relationship Id="rId4" Type="http://schemas.openxmlformats.org/officeDocument/2006/relationships/hyperlink" Target="http://www.uni.illinois.edu/library/computerlit/netiquette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755640"/>
            <a:ext cx="7858080" cy="1335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iffany Br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Dana Rutkowsk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ilkes Univers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merging Technolog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523800" y="6825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?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word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is a contraction of the words Inte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net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s a set of rules that we follow for behaving properly onlin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2"/>
          <a:stretch/>
        </p:blipFill>
        <p:spPr>
          <a:xfrm>
            <a:off x="523800" y="6825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reates good behavior for youth while on the Ne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you use netiquette you are setting an example as a positive role model for anyone who is conversing with yo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ember that there is another person on the other end of the conversa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19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2"/>
          <a:stretch/>
        </p:blipFill>
        <p:spPr>
          <a:xfrm>
            <a:off x="530280" y="225360"/>
            <a:ext cx="7778520" cy="14749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ep your passwords private, even from your best friend! No one should ever ask you for your password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e only your Log-in Name and/or e-mail address when chatting or sending e-mail. Never give out personal information like your name, address, or phone numb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nge your password periodic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2"/>
          <a:stretch/>
        </p:blipFill>
        <p:spPr>
          <a:xfrm>
            <a:off x="530280" y="450720"/>
            <a:ext cx="7778520" cy="1481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 write anything that you would not write on a post ca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eat other people’s conversation with respe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ted messages should not be s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 not give out your address/phone numb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llow the golden rule, “Don’t talk to strangers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2"/>
          <a:stretch/>
        </p:blipFill>
        <p:spPr>
          <a:xfrm>
            <a:off x="603360" y="225360"/>
            <a:ext cx="7785000" cy="147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n't make the mistake of thinking that you know someone after having "met" him or her online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e mindful of what personal information you are posting on you blog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 not post anything that you would not want your parents to rea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2"/>
          <a:stretch/>
        </p:blipFill>
        <p:spPr>
          <a:xfrm>
            <a:off x="530280" y="530280"/>
            <a:ext cx="7778520" cy="1474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og off compu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rsonal information is PERSON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ever make plans to meet someone you met onlin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ou never know who’s on the other end that you are talking t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2"/>
          <a:stretch/>
        </p:blipFill>
        <p:spPr>
          <a:xfrm>
            <a:off x="530280" y="682560"/>
            <a:ext cx="7778520" cy="1255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asij.ac.jp/elementary/iTeacher/netiquette.ht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uni.illinois.edu/library/computerlit/netiquette.ph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6:03:49Z</dcterms:created>
  <dc:creator>Tiff</dc:creator>
  <dc:description/>
  <dc:language>en-US</dc:language>
  <cp:lastModifiedBy>PA Department of Education Classrooms for the Future</cp:lastModifiedBy>
  <dcterms:modified xsi:type="dcterms:W3CDTF">2009-11-02T01:07:24Z</dcterms:modified>
  <cp:revision>12</cp:revision>
  <dc:subject/>
  <dc:title>Netiquette in School</dc:title>
</cp:coreProperties>
</file>